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0EC-160E-4BD7-B602-53516400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299-2B50-4C88-B79E-2FD41F96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B70-CB6B-4815-A818-CB941801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7B6-C1E9-4BE9-90BA-5B9B04A3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B6C-3F05-4B2A-B26F-8FCB3111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F2C-CB89-417F-9D5A-8ADEBB7E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92B-5D8A-41C5-AC58-2F1E0805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DC9-C755-47F8-A625-987187CF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18F-7621-4F6F-8F84-5315CD7F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16F-A6FB-4199-8673-F2A10718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38E-6D02-489D-9444-33F95BA4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B5E-BAF0-4DB8-90E6-A33C06D4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97C5-A0EF-4221-BA0C-131ADD8F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077320" cy="757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39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uerelement 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72360" y="333360"/>
            <a:ext cx="792360" cy="652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213372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euerele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st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14972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1.Text = 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314172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3284640"/>
            <a:ext cx="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979280" y="494172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FE3-3646-41CF-97D6-04F175E53D7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149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2.Text = 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79280" y="3284640"/>
            <a:ext cx="331308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FAD-9781-4979-95B2-96353CCE36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236000" y="2924280"/>
            <a:ext cx="64908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149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3.Text = 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79640" y="3284640"/>
            <a:ext cx="669600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12536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.Idem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8028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1A3-809A-4857-904C-2191B1734CB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84720" y="2133720"/>
            <a:ext cx="1081080" cy="1728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149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4.Text = 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79640" y="3284640"/>
            <a:ext cx="4248000" cy="16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162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3BA-9246-484B-8319-9D5B078FF8A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95640" y="2924280"/>
            <a:ext cx="936360" cy="43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2924280"/>
            <a:ext cx="187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2924280"/>
            <a:ext cx="647640" cy="433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484280"/>
          <a:ext cx="3456000" cy="2376360"/>
        </p:xfrm>
        <a:graphic>
          <a:graphicData uri="http://schemas.openxmlformats.org/drawingml/2006/table">
            <a:tbl>
              <a:tblPr/>
              <a:tblGrid>
                <a:gridCol w="819000"/>
                <a:gridCol w="970200"/>
                <a:gridCol w="927720"/>
                <a:gridCol w="73908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400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92720" y="1557360"/>
          <a:ext cx="1863720" cy="2260440"/>
        </p:xfrm>
        <a:graphic>
          <a:graphicData uri="http://schemas.openxmlformats.org/drawingml/2006/table">
            <a:tbl>
              <a:tblPr/>
              <a:tblGrid>
                <a:gridCol w="792000"/>
                <a:gridCol w="107172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292720" y="10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1497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5.Text = Feld(List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stindex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2997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653000"/>
            <a:ext cx="1152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979280" y="3357720"/>
            <a:ext cx="360360" cy="15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C3A-DBA3-4CAB-A1D5-043A2907B55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32000" y="1773360"/>
            <a:ext cx="59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offe, das diese Darstellung dazu beiträgt, mit dem Steuerelem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box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 arbe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E24-35CB-48E6-A2AA-B87E8174626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Listenfeld-Steuerelement (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Bo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zeigt eine Liste mit Elementen an, aus der der Benutzer ein oder mehrere Elemente auswählen kan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die Anzahl der Elemente größer ist als die Anzahl der Elemente, die dargestellt werden können, wird automatisch eine Bildlaufleiste zum Listenfeld-Steuerelement hinzugefü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kein Element ausgewählt ist, hat di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Eigenschaft den Wert -1. Das erste Element in der Liste hat 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Wert 0, und der Wert 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Cou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Eigenschaft ist immer um eins höher als der größt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W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n Metho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dIte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moveIte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önnen Sie Elemente in einem Listenfeld-Steuerelement hinzufügen oder löschen. Setzen Sie die Eigenschaft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Cou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Inde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mit ein Benutzer auf die Elemente des Listenfeldes zugreifen kann. Alternativ können Sie Elemente zu der Liste hinzufügen, indem Sie zur Entwurfszeit di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Eigenschaft verw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98C-87B1-4546-B6D7-785029F60E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413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sit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Daten eines Feldes sollen über ein Listenfeld gesucht und angezeigt wer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6408720" cy="33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AB1-6C28-4525-BDE9-2DC44FCBCB8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4A2-71DC-41BF-AE32-FAB20C63870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C4E-BC63-429F-AB2F-F7143387A41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157-5EB1-4253-8C7E-F2C6325AD62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842-4497-4759-87CB-087D2342440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C32-3C91-44DF-8E13-2E2AA854016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2349360"/>
            <a:ext cx="352728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773360"/>
          <a:ext cx="3552840" cy="297468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5960"/>
                <a:gridCol w="8888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9528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d(3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157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aehl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16360" y="1773360"/>
          <a:ext cx="1800360" cy="576000"/>
        </p:xfrm>
        <a:graphic>
          <a:graphicData uri="http://schemas.openxmlformats.org/drawingml/2006/table">
            <a:tbl>
              <a:tblPr/>
              <a:tblGrid>
                <a:gridCol w="792360"/>
                <a:gridCol w="1008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16360" y="2421000"/>
          <a:ext cx="1800000" cy="503280"/>
        </p:xfrm>
        <a:graphic>
          <a:graphicData uri="http://schemas.openxmlformats.org/drawingml/2006/table">
            <a:tbl>
              <a:tblPr/>
              <a:tblGrid>
                <a:gridCol w="825840"/>
                <a:gridCol w="9741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877080" y="249228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2492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2492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78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789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(Zaehler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1.Item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77080" y="1773360"/>
          <a:ext cx="1800360" cy="576000"/>
        </p:xfrm>
        <a:graphic>
          <a:graphicData uri="http://schemas.openxmlformats.org/drawingml/2006/table">
            <a:tbl>
              <a:tblPr/>
              <a:tblGrid>
                <a:gridCol w="792360"/>
                <a:gridCol w="1008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716360" y="422100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Data(List1.New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77080" y="2492280"/>
          <a:ext cx="1800000" cy="503280"/>
        </p:xfrm>
        <a:graphic>
          <a:graphicData uri="http://schemas.openxmlformats.org/drawingml/2006/table">
            <a:tbl>
              <a:tblPr/>
              <a:tblGrid>
                <a:gridCol w="825840"/>
                <a:gridCol w="9741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6948360" y="2565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40720" y="2492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472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(Zaehler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2421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2421000"/>
            <a:ext cx="863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Joachim Rö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7BF-504B-4614-B806-3129F500244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9:06:01Z</dcterms:created>
  <dc:creator>Joachim Röhl</dc:creator>
  <dc:description/>
  <dc:language>en-US</dc:language>
  <cp:lastModifiedBy>Joachim Röhl</cp:lastModifiedBy>
  <dcterms:modified xsi:type="dcterms:W3CDTF">2002-11-21T10:16:29Z</dcterms:modified>
  <cp:revision>5</cp:revision>
  <dc:subject/>
  <dc:title>Steuerelement  Listbox</dc:title>
</cp:coreProperties>
</file>